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EEB-7564-44E6-A5D2-9BB3A931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8CD-2304-4435-958F-FCB78C3B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B89-571F-437E-B7FE-276FA6EA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0F8-27C1-4A2E-ACC5-FFAE7827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B216-75BF-442C-8538-071C2DA6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8DF-7A47-497C-BBBD-0CFBA31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F708-2E2B-4B2E-8BFA-1A10770D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F6EE-4A6E-4066-A67F-2CF6AF2B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04F0-DD69-4B9D-8B01-15B5B80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862B-2182-4A94-BEF1-5935AA17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5B61-880F-470B-A3C8-90F5FDA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F3D-A988-418A-8755-95A98104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A7CD-CE80-43F1-8D0C-6427347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6E53-7631-4D78-ADA6-8F4831E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D180-E859-4394-94CE-32A1E828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3139-478A-4A24-90A9-BBDA081A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8D85-0E1F-45A3-BD63-8A210A67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EC6C-7BE2-4C0B-8DAD-704F58CE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1B62D-EF5A-458C-8F30-794053E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82F2-8177-4D1B-AFE6-A6F45E4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6123-9A7B-49FC-833D-4DBDD50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8679-7CFA-42B1-BD71-27C32CA5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1ED-3328-4A7D-B480-A41A4C1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D9BC-3BD5-456C-9C3A-B715E837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98AE4-10F9-4A25-8CAB-E499AEA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2BA0-33DF-453D-A684-7D092E1B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77A5-76BA-419D-B782-40463A8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DA21-004D-4C13-A2EC-19846508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F6C0-3160-45E5-873C-36AFEE6A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2DC9-5432-452A-8157-46D639B0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D89F-758D-49F0-8399-920B5D64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C0FB-7CC4-49A2-9E43-F0D13293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F208-5E39-4EE8-8663-3347E98C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B9D-F347-4E7B-A2FB-FBA28B09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843B-5433-4AAC-B250-5B05C446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06B6-9148-42D4-A594-B7C90DAB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B6A6-D3D9-4A2D-937C-7633588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DBABA-FE74-47BB-A4B0-1E2CFC4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DD470-1036-4989-9CC9-9F4B8B29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B3E9-6B43-4DF6-95C6-4BD233E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179A-87CA-4744-976F-574CCFAD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42D4-ABFA-460C-A762-BF9B79C9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129C-A711-428E-9DE1-ED446588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89E-FBCF-47AC-BC00-4A41CF4E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1B4-0A9F-4337-9CFF-3C5CE005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CAB-E51E-436A-A4E9-D66F741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09C-00BB-4A71-B1E3-2DD3302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0B5-A62F-4AB1-88F2-CC220A2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152E-5AA7-4505-B292-D34937CF1F5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5A5F-7980-41C2-BCE8-7C3E24F0343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F2A5-3C43-422E-A980-7F3AE6FC052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2304-3C62-4F9D-AE77-C1675C1348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Скругленный прямоугольник 1"/>
          <p:cNvSpPr/>
          <p:nvPr/>
        </p:nvSpPr>
        <p:spPr>
          <a:xfrm>
            <a:off x="790560" y="2781360"/>
            <a:ext cx="7775640" cy="3865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05040" y="3191040"/>
            <a:ext cx="74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облюдение ограничений, запретов, исполнения обязанностей, установленных в целях противодействия коррупции, в том числе по недопущению поведения, которое может восприниматься окружающими как обещание или предложение дачи взятки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о как согласие принять взятку или как просьба о даче взя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C:\Users\User\Desktop\FAA.png"/>
          <p:cNvPicPr/>
          <p:nvPr/>
        </p:nvPicPr>
        <p:blipFill>
          <a:blip r:embed="rId1"/>
          <a:stretch/>
        </p:blipFill>
        <p:spPr>
          <a:xfrm>
            <a:off x="250920" y="333360"/>
            <a:ext cx="1247760" cy="520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746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4"/>
          <p:cNvSpPr/>
          <p:nvPr/>
        </p:nvSpPr>
        <p:spPr>
          <a:xfrm>
            <a:off x="250920" y="333360"/>
            <a:ext cx="8713800" cy="280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5"/>
          <p:cNvSpPr/>
          <p:nvPr/>
        </p:nvSpPr>
        <p:spPr>
          <a:xfrm>
            <a:off x="324000" y="3284640"/>
            <a:ext cx="8640720" cy="3313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324000" y="40464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вое ограничение - установленный законодательством специальный порядок реализации прав и свобод, направленный на удержание соответствующего общественного отношения в строго ограничиваемых рамках, за пределы которых не представляется возможным выйти, и, следовательно, наруши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684360" y="3284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вой запрет - установленная законодательством юридическая невозможность совершения определенных действий (которые фактически представляются возможными), которые могут причинить вред как личным, так и общественным интересам, под угрозой применения ответственности в случае нарушения условий, предусмотренных соответствующей правовой но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C:\Users\User\Desktop\FAA.png"/>
          <p:cNvPicPr/>
          <p:nvPr/>
        </p:nvPicPr>
        <p:blipFill>
          <a:blip r:embed="rId1"/>
          <a:stretch/>
        </p:blipFill>
        <p:spPr>
          <a:xfrm>
            <a:off x="7667640" y="144360"/>
            <a:ext cx="1247760" cy="520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4"/>
          <p:cNvSpPr/>
          <p:nvPr/>
        </p:nvSpPr>
        <p:spPr>
          <a:xfrm>
            <a:off x="971640" y="189000"/>
            <a:ext cx="7343640" cy="1297080"/>
          </a:xfrm>
          <a:custGeom>
            <a:avLst/>
            <a:gdLst>
              <a:gd name="textAreaLeft" fmla="*/ 152640 w 7343640"/>
              <a:gd name="textAreaRight" fmla="*/ 7191000 w 7343640"/>
              <a:gd name="textAreaTop" fmla="*/ 152640 h 1297080"/>
              <a:gd name="textAreaBottom" fmla="*/ 1144440 h 1297080"/>
            </a:gdLst>
            <a:ahLst/>
            <a:rect l="textAreaLeft" t="textAreaTop" r="textAreaRight" b="textAreaBottom"/>
            <a:pathLst>
              <a:path w="12226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664" y="21600"/>
                </a:lnTo>
                <a:arcTo wR="3600" hR="3600" stAng="10800000" swAng="5400000"/>
                <a:lnTo>
                  <a:pt x="12226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87280" y="40464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торые ограничения, связанные с государственной гражданской службой РФ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1) признание недееспособным или ограниченно дееспособным решением суда, вступившим в законную сил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2) осуждение  к наказан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3) отказ от прохождения процедуры оформления допуска к сведениям, составляющим государственную и иную охраняемую федеральным законом тайн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4) наличие заболевания, препятствующего поступлению на гражданскую служб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5) близкое родство или свойства (родители, супруги, дети, братья, сестры, а также братья, сестры, родители и дети супругов) с гражданским служащим, если замещение должности гражданской службы связано с непосредственной подчиненностью или подконтрольностью одного из них другом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6) выход из гражданства Российской Федерации или приобретение гражданства другого государ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7) наличие гражданства другого государства (других государств), если иное не предусмотрено международным договором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6" descr="C:\Users\User\Desktop\FAA.png"/>
          <p:cNvPicPr/>
          <p:nvPr/>
        </p:nvPicPr>
        <p:blipFill>
          <a:blip r:embed="rId1"/>
          <a:stretch/>
        </p:blipFill>
        <p:spPr>
          <a:xfrm>
            <a:off x="0" y="135000"/>
            <a:ext cx="1247760" cy="52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1) участие на платной основе в деятельности органов управления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коммерческой организации, за исключением случаев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установленных федеральным законом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2) осуществление предпринимательской деятельности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3) приобретение в случаях, установленных федеральным законом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ценных бумаг, по которым может быть получен доход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4) получение в связи с исполнением должностных обязанностей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вознаграждения от физических и юридических лиц (подарки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денежное вознаграждение, ссуды, услуги, оплату развлечений,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отдыха, транспортных расходов и иные вознаграждения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5) использование в целях, не связанных с исполнением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должностных обязанностей, средств материально-технического и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иного обеспечения, другое государственное имущество, а также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передача их другим лицам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6) разглашение или использование в целях, не связанных с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гражданской службой, сведений, отнесенных к сведениям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конфиденциального характера, или служебную информацию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836640" y="216000"/>
            <a:ext cx="7343640" cy="936360"/>
          </a:xfrm>
          <a:custGeom>
            <a:avLst/>
            <a:gdLst>
              <a:gd name="textAreaLeft" fmla="*/ 110160 w 7343640"/>
              <a:gd name="textAreaRight" fmla="*/ 7233480 w 7343640"/>
              <a:gd name="textAreaTop" fmla="*/ 110160 h 936360"/>
              <a:gd name="textAreaBottom" fmla="*/ 826200 h 936360"/>
            </a:gdLst>
            <a:ahLst/>
            <a:rect l="textAreaLeft" t="textAreaTop" r="textAreaRight" b="textAreaBottom"/>
            <a:pathLst>
              <a:path w="16934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5747" y="21600"/>
                </a:lnTo>
                <a:arcTo wR="3600" hR="3600" stAng="10800000" swAng="5400000"/>
                <a:lnTo>
                  <a:pt x="169347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32000" y="33336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116000" y="189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торые запреты, связанные с государственной гражданской службой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C:\Users\User\Desktop\FAA.png"/>
          <p:cNvPicPr/>
          <p:nvPr/>
        </p:nvPicPr>
        <p:blipFill>
          <a:blip r:embed="rId1"/>
          <a:stretch/>
        </p:blipFill>
        <p:spPr>
          <a:xfrm>
            <a:off x="0" y="73080"/>
            <a:ext cx="1247760" cy="52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468360" y="189000"/>
            <a:ext cx="4535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можем предоставить Вам и вашим родственникам скид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2916360" y="5129280"/>
            <a:ext cx="374328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203640" y="5273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может договоримся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C:\Users\User\Desktop\FAA.png"/>
          <p:cNvPicPr/>
          <p:nvPr/>
        </p:nvPicPr>
        <p:blipFill>
          <a:blip r:embed="rId1"/>
          <a:stretch/>
        </p:blipFill>
        <p:spPr>
          <a:xfrm>
            <a:off x="7785000" y="5877000"/>
            <a:ext cx="1247760" cy="520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http://mosbuh.ru/wp-content/uploads/2013/04/3101d96a48323e84281b92935a74a65e.jpg"/>
          <p:cNvPicPr/>
          <p:nvPr/>
        </p:nvPicPr>
        <p:blipFill>
          <a:blip r:embed="rId2"/>
          <a:stretch/>
        </p:blipFill>
        <p:spPr>
          <a:xfrm>
            <a:off x="2340000" y="1125360"/>
            <a:ext cx="5024520" cy="3772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971640" y="476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60280"/>
            <a:ext cx="7775640" cy="208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влены государственными служащими слова, выражения и жесты, которые могут быть восприняты окружающими как просьба (намек) о даче взятки и указать на необходимость воздерживаться от употребления подобных выражений при взаимодействии с гражда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:\Users\User\Desktop\FAA.png"/>
          <p:cNvPicPr/>
          <p:nvPr/>
        </p:nvPicPr>
        <p:blipFill>
          <a:blip r:embed="rId1"/>
          <a:stretch/>
        </p:blipFill>
        <p:spPr>
          <a:xfrm>
            <a:off x="179280" y="5950080"/>
            <a:ext cx="1247760" cy="520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2"/>
          <a:stretch/>
        </p:blipFill>
        <p:spPr>
          <a:xfrm>
            <a:off x="1631880" y="25210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1"/>
          <p:cNvSpPr/>
          <p:nvPr/>
        </p:nvSpPr>
        <p:spPr>
          <a:xfrm>
            <a:off x="468360" y="390600"/>
            <a:ext cx="8136000" cy="2967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39880" y="765000"/>
            <a:ext cx="727236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есоблюдение ограничений и запретов, связанных 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 гражданской службой, влечет дисциплинарную ответственность. Государственно-служебные отношения могут быть прекращены с любыми гражданскими служащими, независимо от замещаемой ими должности гражданской службы, ее категории и групп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C:\Users\User\Desktop\FAA.png"/>
          <p:cNvPicPr/>
          <p:nvPr/>
        </p:nvPicPr>
        <p:blipFill>
          <a:blip r:embed="rId1"/>
          <a:stretch/>
        </p:blipFill>
        <p:spPr>
          <a:xfrm>
            <a:off x="7740720" y="6021360"/>
            <a:ext cx="124776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http://kkka13.ru/soveti__advokata/trud_spor/Disciplinarnie_vziskanija/%D0%B4%D0%B8%D1%81%D1%86%D0%B8%D0%BF%D0%BB%D0%B8%D0%BD%D0%B0%D1%80%D0%BD%D0%BE%D0%B5%20%D0%B2%D0%B7%D1%8B%D1%81%D0%BA%D0%B0%D0%BD%D0%B8%D0%B5.aspx"/>
          <p:cNvPicPr/>
          <p:nvPr/>
        </p:nvPicPr>
        <p:blipFill>
          <a:blip r:embed="rId2"/>
          <a:stretch/>
        </p:blipFill>
        <p:spPr>
          <a:xfrm>
            <a:off x="1187280" y="3524400"/>
            <a:ext cx="2260800" cy="1495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3"/>
          <a:stretch/>
        </p:blipFill>
        <p:spPr>
          <a:xfrm>
            <a:off x="3564000" y="4078440"/>
            <a:ext cx="355896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7:26:16Z</dcterms:created>
  <dc:creator>Виолетта</dc:creator>
  <dc:description/>
  <dc:language>en-US</dc:language>
  <cp:lastModifiedBy>user</cp:lastModifiedBy>
  <dcterms:modified xsi:type="dcterms:W3CDTF">2015-10-24T20:30:20Z</dcterms:modified>
  <cp:revision>79</cp:revision>
  <dc:subject/>
  <dc:title>Слайд 1</dc:title>
</cp:coreProperties>
</file>